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98C4-DDFA-44D7-89AA-4F3ECC83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4D3A4-4629-412C-AF06-318FEDEB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231EC-9482-4A48-932B-2B88CC7E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4FFB-FF60-49B8-9712-BFCD9C47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0F85-72F6-4535-8B5E-E792DCCB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45E0-27D0-4D64-A0E1-4124200E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FC6D-039E-40F0-95F6-8A3C54A1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925B-D0DB-431C-8B85-850E7739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8B5F-4016-4220-A808-AA56E640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1DC5-2AC1-40E6-ACE1-F894BD74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79A1-E0E6-401D-919E-06D8F294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F3659-0FD7-483E-B633-38E291A1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CCD9-08DA-4C37-8EBC-88FA310F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F42A-43E0-4BDD-ACE8-1217923C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8341-68B3-49DC-86A3-4AD3904A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87AD-69C1-4CC1-BE82-CB710C40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9EDB-9564-499D-9C3F-496A9E30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635C-5877-4790-81C7-32DDBC7C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51280-D3A7-4F53-B8B7-6AA2BB52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6E3B8-BA26-494B-92D2-514C7F26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321B9-6870-4918-B78D-109B5E03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D01DB-3E34-497E-A794-5B07CFC7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A727A-5A1D-4D63-9FA5-73463CCB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C152B-54CB-4C97-9029-852A563D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5ACD-AE72-4619-BE24-454E70823D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8DA2-5D90-406B-920A-3992CCAC82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440" y="1915920"/>
            <a:ext cx="45529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Monotype Corsiva"/>
              </a:rPr>
              <a:t>Геометр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834920" y="4365360"/>
            <a:ext cx="360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Monotype Corsiva"/>
              </a:rPr>
              <a:t>7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580000" y="4313160"/>
            <a:ext cx="2592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Monotype Corsiva"/>
              </a:rPr>
              <a:t>Свойства прямо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05952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Через любые две точки можно построить прямую и притом только одн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Прямая бесконеч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724360" y="189000"/>
            <a:ext cx="3203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3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3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360" y="691920"/>
            <a:ext cx="640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Monotype Corsiva"/>
              </a:rPr>
              <a:t>Знаете ли Вы, что..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6912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звание науки 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«геометрия»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древнегреческого происхож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«</a:t>
            </a: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ge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» - «зем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«</a:t>
            </a: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metreo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» - «измеряю»,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таким обра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800080"/>
                </a:solidFill>
                <a:latin typeface="Arial"/>
              </a:rPr>
              <a:t>геометрия – землемер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40000" y="5877000"/>
            <a:ext cx="4181400" cy="266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26920" y="4365720"/>
            <a:ext cx="11178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634716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Monotype Corsiva"/>
              </a:rPr>
              <a:t>Историческая справ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 u="sng">
                <a:solidFill>
                  <a:srgbClr val="800080"/>
                </a:solidFill>
                <a:uFillTx/>
                <a:latin typeface="Times New Roman"/>
              </a:rPr>
              <a:t>Геометр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одна из наиболее древних наук. Появление и развитие геометрических знаний связано с практической деятельностью людей: сооружение жилищ, храмов, измерение земельных участков и т.п. Это отразилось и в названиях многих геометрических фигур. </a:t>
            </a:r>
            <a:r>
              <a:rPr b="0" lang="ru-RU" sz="3200" spc="-1" strike="noStrike" u="sng">
                <a:solidFill>
                  <a:srgbClr val="00007d"/>
                </a:solidFill>
                <a:uFillTx/>
                <a:latin typeface="Times New Roman"/>
              </a:rPr>
              <a:t>Например: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трапеция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гре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pezion) – 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«стол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ли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m) – 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«лен, льняная нить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42236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456840"/>
            <a:ext cx="633564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Monotype Corsiva"/>
              </a:rPr>
              <a:t>Фалес Милетский. </a:t>
            </a:r>
            <a:br>
              <a:rPr sz="4800"/>
            </a:br>
            <a:r>
              <a:rPr b="0" lang="en-US" sz="4800" spc="-1" strike="noStrike">
                <a:solidFill>
                  <a:srgbClr val="800080"/>
                </a:solidFill>
                <a:latin typeface="Monotype Corsiva"/>
              </a:rPr>
              <a:t>(около 625-547 гг.до н.э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24000" y="1988640"/>
            <a:ext cx="6562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алес – древнегреческий математик и астроном. В молодости посетил Египет, где в школах Мемфиса и Фив изучал разные науки. Он первым начал получать новые геометрические сведения с помощью доказательст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24000" y="2060640"/>
            <a:ext cx="1847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2152800" cy="2885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69138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Monotype Corsiva"/>
              </a:rPr>
              <a:t>Евклид (Эвклид)</a:t>
            </a:r>
            <a:br>
              <a:rPr sz="4800"/>
            </a:br>
            <a:r>
              <a:rPr b="0" lang="en-US" sz="4800" spc="-1" strike="noStrike">
                <a:solidFill>
                  <a:srgbClr val="800080"/>
                </a:solidFill>
                <a:latin typeface="Monotype Corsiva"/>
              </a:rPr>
              <a:t>(около 365 – 300 г.г. до н.э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56000" y="1844640"/>
            <a:ext cx="6130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одом он из Афин, был учеником Платона, научная деятельность протекала в Александрии, где Евклид создал научную школу. Главный труд Евклида «Начала». Почти два тысячелетия геометрия изучалась по этой книге, а наука в честь ученого была названа евклидовой геометри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35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Monotype Corsiva"/>
              </a:rPr>
              <a:t>Геометрия</a:t>
            </a:r>
            <a:r>
              <a:rPr b="0" lang="en-US" sz="5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это наука, занимающаяся изучением геометрических фигу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3213000"/>
            <a:ext cx="1081080" cy="1079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cc"/>
              </a:gs>
              <a:gs pos="50000">
                <a:srgbClr val="00005e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3500280"/>
            <a:ext cx="1440000" cy="792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1595bd"/>
              </a:gs>
              <a:gs pos="100000">
                <a:srgbClr val="0944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141720"/>
            <a:ext cx="1081080" cy="865080"/>
          </a:xfrm>
          <a:custGeom>
            <a:avLst/>
            <a:gdLst>
              <a:gd name="textAreaLeft" fmla="*/ 237600 w 1081080"/>
              <a:gd name="textAreaRight" fmla="*/ 843480 w 1081080"/>
              <a:gd name="textAreaTop" fmla="*/ 190080 h 865080"/>
              <a:gd name="textAreaBottom" fmla="*/ 67500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3141720"/>
            <a:ext cx="863640" cy="8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4000" y="4581360"/>
            <a:ext cx="1008000" cy="1440000"/>
          </a:xfrm>
          <a:prstGeom prst="triangle">
            <a:avLst>
              <a:gd name="adj" fmla="val 50000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4720" y="4797360"/>
            <a:ext cx="1008360" cy="1295640"/>
          </a:xfrm>
          <a:prstGeom prst="rtTriangl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5013360"/>
            <a:ext cx="86508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4869000"/>
            <a:ext cx="1224000" cy="1224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4508640"/>
            <a:ext cx="1081080" cy="1657080"/>
          </a:xfrm>
          <a:prstGeom prst="diamond">
            <a:avLst/>
          </a:prstGeom>
          <a:solidFill>
            <a:srgbClr val="c80a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8353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Monotype Corsiva"/>
              </a:rPr>
              <a:t>Планиметр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800080"/>
                </a:solidFill>
                <a:latin typeface="Arial"/>
              </a:rPr>
              <a:t>–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часть геометрии, которая рассматривает свойства фигур на плоскост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3933720"/>
            <a:ext cx="1081080" cy="865440"/>
          </a:xfrm>
          <a:custGeom>
            <a:avLst/>
            <a:gdLst>
              <a:gd name="textAreaLeft" fmla="*/ 237600 w 1081080"/>
              <a:gd name="textAreaRight" fmla="*/ 843480 w 1081080"/>
              <a:gd name="textAreaTop" fmla="*/ 190080 h 865440"/>
              <a:gd name="textAreaBottom" fmla="*/ 6753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72360" y="3933720"/>
            <a:ext cx="863640" cy="8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860640"/>
            <a:ext cx="86544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4941720"/>
            <a:ext cx="1008360" cy="1440000"/>
          </a:xfrm>
          <a:prstGeom prst="triangle">
            <a:avLst>
              <a:gd name="adj" fmla="val 50000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64360" y="5013360"/>
            <a:ext cx="1008000" cy="1295280"/>
          </a:xfrm>
          <a:prstGeom prst="rtTriangl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4869000"/>
            <a:ext cx="1081080" cy="1657080"/>
          </a:xfrm>
          <a:prstGeom prst="diamond">
            <a:avLst/>
          </a:prstGeom>
          <a:solidFill>
            <a:srgbClr val="c80a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7056360" cy="27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Monotype Corsiva"/>
              </a:rPr>
              <a:t>Стереометрия 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часть геометрии, которая изучает свойства фигур в пространств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3860640"/>
            <a:ext cx="1081080" cy="1079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cc"/>
              </a:gs>
              <a:gs pos="50000">
                <a:srgbClr val="00005e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72360" y="3789360"/>
            <a:ext cx="1439640" cy="792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1595bd"/>
              </a:gs>
              <a:gs pos="100000">
                <a:srgbClr val="0944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4437000"/>
            <a:ext cx="1224000" cy="1224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0000" y="1730160"/>
            <a:ext cx="741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Monotype Corsiva"/>
              </a:rPr>
              <a:t>Основные фигуры планиметр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763640" y="2997360"/>
            <a:ext cx="6194520" cy="2302920"/>
            <a:chOff x="1763640" y="2997360"/>
            <a:chExt cx="6194520" cy="2302920"/>
          </a:xfrm>
        </p:grpSpPr>
        <p:sp>
          <p:nvSpPr>
            <p:cNvPr id="146" name=""/>
            <p:cNvSpPr/>
            <p:nvPr/>
          </p:nvSpPr>
          <p:spPr>
            <a:xfrm flipV="1">
              <a:off x="1763640" y="2997360"/>
              <a:ext cx="6194520" cy="1996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16160" y="4455720"/>
              <a:ext cx="142560" cy="153720"/>
            </a:xfrm>
            <a:prstGeom prst="ellipse">
              <a:avLst/>
            </a:prstGeom>
            <a:solidFill>
              <a:srgbClr val="ee0c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79000" y="5146200"/>
              <a:ext cx="142560" cy="154080"/>
            </a:xfrm>
            <a:prstGeom prst="ellipse">
              <a:avLst/>
            </a:prstGeom>
            <a:solidFill>
              <a:srgbClr val="ee0c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64480" y="3535200"/>
              <a:ext cx="142920" cy="154080"/>
            </a:xfrm>
            <a:prstGeom prst="ellipse">
              <a:avLst/>
            </a:prstGeom>
            <a:solidFill>
              <a:srgbClr val="ee0c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2:31:01Z</dcterms:created>
  <dc:creator>mama</dc:creator>
  <dc:description/>
  <dc:language>en-US</dc:language>
  <cp:lastModifiedBy>Admin</cp:lastModifiedBy>
  <dcterms:modified xsi:type="dcterms:W3CDTF">2011-06-01T11:40:13Z</dcterms:modified>
  <cp:revision>9</cp:revision>
  <dc:subject/>
  <dc:title>Геометрия</dc:title>
</cp:coreProperties>
</file>